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A36C-F346-4BB3-BB96-9ED85EF8B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C3F-3560-4704-8031-05C20794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CB1-089B-4641-9719-A752DDFB4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DA4-592F-4089-AA27-485EAB51B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463E-0402-40A1-B7DD-C76BCA61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graph demonstrates that most businesses in the United States are entrepreneu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entrepreneurship benefits a country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ing the econom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how things are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ing unmet need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produ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, the entrepreneurs described started businesses that are large corporation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that not everyone is suitable for entrepreneu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hobbies, interests, and past experiences may suggest the type of business to 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ptitud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ility to learn a particular kind of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you find out about different business opportun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F4ED-47BC-4876-8CB3-95B4BAF17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D2AF-3E3D-4F71-8C6F-2BB54E231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DBC-DC1F-405A-A614-D89F4B47D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DCD-E571-4572-8727-B890CFCE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B582-BA56-4DD7-B90B-8DD13DCBE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DC92-D424-4C09-9D6F-C96E13EB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B3F-08B8-4E41-A01F-03E1DD19E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7EED-0B4C-4472-8FBD-58B0ACB8A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definition of an entreprene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employees and entreprene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es risk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y people become entrepreneu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ve the corporat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a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sue a personal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the advantages of entrepreneurship outweigh the disadvant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or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each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think of an example to illustrate each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students to the chart in their book, and discuss examples in the community of some of the types of businesses li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think of other examples and to categoriz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58E7-088C-4C6A-B3A1-5475EAA49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2B3B-CDF4-4677-A469-5327D1CDA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E67A-35D6-466C-BC63-32ACEACE9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4740-3153-4AC7-8EDA-3BCC86D76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6652-FDE7-40E5-BE56-F97E83AD8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DA6E-1B94-412E-A3F2-0744B71C9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049C-267B-4987-8E20-129604099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FA6B-9481-420D-AB9C-084CAC041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E0A3-ABC0-41F3-91C9-DEC726737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9C16-A29B-4986-8F74-BC2B43658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AAFF-6B6E-4E13-8856-FD0E81518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8E1C-AD18-409C-B09F-823EBFF1F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8436D203-5A91-494D-842F-33809EE7F2BA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070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Entrepreneurship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	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"/>
              </a:rPr>
              <a:t>DO NOW: Get a Book from the Close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26"/>
              </a:spcBef>
              <a:buClr>
                <a:srgbClr val="339933"/>
              </a:buClr>
              <a:buFont typeface="Arial"/>
              <a:buChar char="•"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Arial"/>
              </a:rPr>
              <a:t>Page 3 Read Delia’s Dilem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26"/>
              </a:spcBef>
              <a:buClr>
                <a:srgbClr val="339933"/>
              </a:buClr>
              <a:buFont typeface="Arial"/>
              <a:buChar char="•"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99"/>
                </a:solidFill>
                <a:latin typeface="Arial"/>
              </a:rPr>
              <a:t>Answer questions 1 - 4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46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Arial"/>
              </a:rPr>
              <a:t>We will be taking notes and doing book work today. Make sure you have a pen and notebook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BE79B6F-9D00-487C-89FC-9AE28B609E6C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OLESAL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ies and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, plumbing, hea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ber, construc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ry, equipment,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s, automo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, pape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, petroleu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97971936-2660-4D80-9BF1-BEEBBF65DE6E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TAIL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and home suppl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materials and suppl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itur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, novelty, and souvenir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el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bak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ing goods and bicycl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1C17D682-3D56-4F09-BCAB-5996D537E674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ERVICE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ance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ive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c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 deco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n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27197BD4-E63A-4894-9A48-705E049ACE54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MALL BUSINESSES DOMINAT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HE U.S. ECONOMY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693720" y="1766880"/>
          <a:ext cx="8137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766880"/>
                    <a:ext cx="8137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3A85CEE4-6D96-4886-8F13-1F50E05F750D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NTREPRENEURS IN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UNITED STATES HISTORY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ho changed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teenth century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5.8 small businesses contribute to the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 employ more workers than all of the country’s large corporations comb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3753BF52-488C-4ED1-B26A-5DC3EB27C7D3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ASSESS YOUR SUITABILITY FOR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your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ies an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your ap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050E2D2F-21BC-4825-8381-D2AA17E6FF27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JOB ATTRIBUTES CHECKLIS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outdo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working with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njoy s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working with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efer to work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supervising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knowing exactly what it is I am supposed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1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7FA0336-84C6-49DD-A97F-00ABB35EF259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1.3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DENTIFY BUSINESS OPPORTUNITIES AND SET GOA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71440" y="2743200"/>
            <a:ext cx="5637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different businesses you coul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own personal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3282C5FC-67E6-4E7E-99B3-C4B42592A5D9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NVESTIGATE OPPORTUNITI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on entrepreneu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ntrepreneurs and trade magazines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certain businesses (exa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ublic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y Business Patterns (example of government grant pub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preneu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Business Administ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ba.g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shows and trade associ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ample list of trade sh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09480" y="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different businesses you could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A150B58B-C4E5-43A9-B7FA-EC9E1F66305F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Impact"/>
              </a:rPr>
              <a:t>COMPARE DIFFERENT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Impact"/>
              </a:rPr>
              <a:t>OPPORTUNITIES</a:t>
            </a:r>
            <a:endParaRPr b="0" lang="en-US" sz="3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market? Will peopl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would it take? Will I be able to borrow that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ours a week are required? Am I willing to commit that much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risks? What is the rate of business fail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have the right background? Do others who own this kind of business have more exper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could I m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09480" y="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different businesses you could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SHOULD YOU BECOME AN ENTREPRENEUR?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1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repreneurs (1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2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s Entrepreneurship Right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dentify Business Opportunities and S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4120" y="248256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Impact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A882CE9C-6734-4143-AD1B-8C3CAAC404BA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ETTING GOAL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oney you will 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quickly you can pay off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 communit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omething you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oy pers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99240" y="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your own personal go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22960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C9B8FEB0-812F-47F7-AB88-250784ECB4CD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hapter 1 Think Criticall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a business idea that appeals to you. For this business, answer the six assessment questions listed in this lesson. Is this a realistic choice for you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F2C6A15C-E82A-440E-A139-69F2EBF10BE4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IS AN ENTREPRENEUR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own, operate, and take the risk of a business venture are calle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ntreprene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ntrepreneu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running a business of one’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ployees vs. entrepreneu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y do people become entrepreneur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668CA18B-E43A-4004-90A8-9EEBD05EA23D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ADVANTAGES OF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are their own bo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choose a business that interests the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be creativ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can make lo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231DCFA8-C5E9-4499-B628-0EE0289485E7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DISADVANTAGES OF ENTREPRENEU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hip is risk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face uncertain and irregular incom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ork long hour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must make all decisions by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62FA567C-9E97-478D-9799-21D1C4F4C1FA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ARACTERISTIC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UCCESSFUL ENTREPRENEUR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lf-conf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determination and persev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goal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eed to achieve and to set high standards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ble to act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1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F5B57D92-050C-4400-A1E0-001DE2836853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IS ENTREPRENEURSHIP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IGHT FOR YOU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1440" y="2743200"/>
            <a:ext cx="5637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haracteristics of successful entrepren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whether you have what it takes to succeed in your ow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D0AEAB42-EC75-4189-8FA4-07192A3C3D07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YP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NTREPRENEURIAL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s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 and ex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543800" y="133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077320" y="4572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3C79F183-8F17-4E24-B3E8-CA0E930A39BE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MANUFACTURING BUSINESS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arel and other textil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 and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s and other electric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ed met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achinery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 and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er and miscellaneous plast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ne, clay, and glas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21:14:40Z</dcterms:created>
  <dc:creator>M. C. McLaughlin</dc:creator>
  <dc:description/>
  <dc:language>en-US</dc:language>
  <cp:lastModifiedBy>008736</cp:lastModifiedBy>
  <dcterms:modified xsi:type="dcterms:W3CDTF">2011-09-21T12:25:00Z</dcterms:modified>
  <cp:revision>42</cp:revision>
  <dc:subject/>
  <dc:title>SHOULD YOU BECOME AN ENTREPRENEUR?</dc:title>
</cp:coreProperties>
</file>